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F7C-181A-46E3-8D73-42B862D0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9C8-CFEC-42B2-B5A2-400B0B0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B11-6205-4A1E-A993-71EC7A98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09F-651A-4F9C-9CC6-40B75196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6845-F214-41EF-B9D4-4BAB2749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2BA0-5F41-4A39-B34E-B3DACDE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CF8-2B12-48ED-8614-0FB0A0E1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717-AA2E-4FFD-AF27-FADC2347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F9C1-F5C1-4A3C-A86A-3AD8F5FF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D57-3154-416F-AD3E-6B14A7E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A751-AEBD-40F5-BC55-270D36A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EFF-1536-4E8F-A23F-28C3DC8D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CC45-8BFD-442D-9DE2-547E2F9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0FEB-3839-4892-BA27-C45732F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02D2-FD24-4C45-A503-95E8E0DC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18DD-3230-4D42-96CB-365470EF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126-8B32-475C-99D5-75AED4CB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C0D-406B-4DDA-92F0-A4E3A889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A3A-3BBB-472B-9130-169EA4C9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554-3A1C-47C0-935B-B5A4A421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71D-6501-45D3-9A54-91E42B5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106-30E4-411F-B092-2406AB5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43A-C4B3-4D21-A48E-6D251EA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D60-C491-44EB-9640-549EAF6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027-2EEE-4531-A873-803F1D54FDC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3A3-FE10-4C7B-92DF-07D010FEAE4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671508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宋体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  <a:ea typeface="宋体"/>
              </a:rPr>
              <a:t>Socialization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8840" y="407196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  <a:ea typeface="宋体"/>
              </a:rPr>
              <a:t>Prepared by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Tamsila Satt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835280" y="0"/>
            <a:ext cx="7022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flowers"/>
          <p:cNvPicPr/>
          <p:nvPr/>
        </p:nvPicPr>
        <p:blipFill>
          <a:blip r:embed="rId1"/>
          <a:stretch/>
        </p:blipFill>
        <p:spPr>
          <a:xfrm>
            <a:off x="6072120" y="1357200"/>
            <a:ext cx="2786040" cy="1785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500200" y="1285920"/>
            <a:ext cx="30718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a3d7a"/>
                </a:solidFill>
                <a:latin typeface="Times New Roman"/>
              </a:rPr>
              <a:t>Culture and Socialization</a:t>
            </a:r>
            <a:br>
              <a:rPr sz="4000"/>
            </a:br>
            <a:r>
              <a:rPr b="0" lang="en-CA" sz="4000" spc="-1" strike="noStrike">
                <a:solidFill>
                  <a:srgbClr val="2a3d7a"/>
                </a:solidFill>
                <a:latin typeface="Times New Roman"/>
              </a:rPr>
              <a:t>Pandya and Chispa experi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5b5249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b5249"/>
                </a:solidFill>
                <a:latin typeface="Times New Roman"/>
              </a:rPr>
              <a:t>Students complete a role-play activity and analyze the resul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b5249"/>
                </a:solidFill>
                <a:latin typeface="Times New Roman"/>
              </a:rPr>
              <a:t>Students gain skills in observing and describing behaviour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b5249"/>
                </a:solidFill>
                <a:latin typeface="Times New Roman"/>
              </a:rPr>
              <a:t>Students develop an understanding of how our cultural values influence the way we view other group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Socialization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umans learn the expectations of society through socialization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Socialization is different based on race, gender and clas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How many agents of socialization can you name?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RAINSTORM LIST OF STATEMENTS AS A CLA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ee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ubs, social group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. Family is the most important agent of socialization because…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amily provides initial love and nurtur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ransmission of social and cultural valu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imary source of love and suppor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rst social experiences happen within famil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ocial Norms and Peer Pressu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dividuals must earn acceptance from their peers by conforming to the groups social norms (dress, speech patterns, attitud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other words when we conform to our peers norms we are rewarded by acceptance within the grou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ose who do not conform to this form of “peer pressure” may be socially isolated or expelled from the grou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5.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hildren Also Socialize Parents!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ization is a 2-way 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ildren teach parents about the latest fads, clothing, music and langua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ents may also learn attitudes and behaviors about drug use, sexuality, sports leisure  and ethnic issues from their grown childr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6. Racial-Ethnic Socializ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thnocentris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cholars may be hesitant to point out differences in socialization practices among diverse ethnic and social class groupings because such differences have typically been interpreted by others as a sign of inadequate (or inferior) socialization practi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. Socialization is a lifelong process…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You are socialized in infancy and childhood by famil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childhood/ adolescence we are socialized by our peers and other agents such as school and med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ter in adulthood we learn lessons related to socialization in addition to those agents mentioned. Consider work, government and even out children and grandchild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 Resocializa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Voluntary Resocialization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en we assume a new status of our own free will (student, employee, retiree, religious conversion, medical or psychological treatment, rehabilitatio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nvoluntary Resocializatio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occurs within a total institution (under the control of officials in isolated conditions). It generally occurs against a person’s wishes and are stripped of their former selves and depersonalized and made to adopt a new set of behaviors( Prisons, military boot camps, concentration camps, some mental hospital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2:27:19Z</dcterms:created>
  <dc:creator>RASHID MUNIR</dc:creator>
  <dc:description/>
  <dc:language>en-US</dc:language>
  <cp:lastModifiedBy>Ikram</cp:lastModifiedBy>
  <dcterms:modified xsi:type="dcterms:W3CDTF">2020-03-27T12:12:51Z</dcterms:modified>
  <cp:revision>19</cp:revision>
  <dc:subject/>
  <dc:title>SOCIALIZATION:  TEXTBOOK ASSIGNMENT</dc:title>
</cp:coreProperties>
</file>